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7B6-2BF2-4B43-9874-D65DE027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6C5-B652-4F35-A19A-E609252A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4B1-666E-4EB8-B450-FC2A0D75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86E-1727-4E33-8DA0-6B5C1BAC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D9B-F591-475F-93C1-3C23B24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FDA-E41A-40E6-A6C9-E15D971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EDB3-6CCA-4B5B-9C0E-87B7A38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AE4-7FEB-4C30-908C-DA0ACC4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9F8-ADF5-4FF6-B114-7E6B807D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9404-17FC-4AC1-BB95-AD082ED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B84-00F2-4B37-9CEF-51BEA7F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C76-8F2E-4FA8-B957-4F6158C9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FDA-D93E-4BE7-96FB-08D4A31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8B36-3E2A-487D-933F-6AEA1CF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52E-D522-4E51-8610-0148089D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8769-8EAC-4E68-9F6D-144E735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A36-5827-4774-9E1C-21C269E8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471-A464-403F-98D9-61BD118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900-C8E1-4451-957F-6F89847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39D-8506-479F-A53B-B677DB0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C5A-6DAF-41D1-AD95-3219897F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12E-6A73-4443-B16D-05EBBAB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881-30B4-4EDD-9301-771AB6D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B49-CE14-4F01-A733-25D1EC5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A1E2-F8AC-482D-9ECF-0C8A3D83891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AC4-F424-40E5-8CF8-A364E1F1F89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ion of 1860 &amp; Sec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ion of 186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al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Nomi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tutional Union Party:  John B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rn Democratic:  Stephen Doug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ern Democratic:  John Breckin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an:  Abraham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62012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blicans barely campaigned in the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coln wins 40% of the popular vote but 180 Electoral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main"/>
          <p:cNvPicPr/>
          <p:nvPr/>
        </p:nvPicPr>
        <p:blipFill>
          <a:blip r:embed="rId1"/>
          <a:stretch/>
        </p:blipFill>
        <p:spPr>
          <a:xfrm>
            <a:off x="1523880" y="2514600"/>
            <a:ext cx="6477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Importance &amp; Impact of the Election of 1860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outherners viewed Lincol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victory as a victory for abol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days of Lincol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n, South Carolina calls for sec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Buchanan will leave the issue of secession to Linco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cession Sta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Carolina, Dec. 20, 1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ssippi, Jan. 9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, Jan. 10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bama, Jan. 11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ia, Jan. 19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iana, Jan. 26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, Feb. 1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ginia, Apr. 17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kansas, May 6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Carolina, May 20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essee, Jun. 8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cession Pros &amp; C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1771560"/>
          <a:ext cx="7772400" cy="3772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orthern Vi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outhern Vi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tate had the right to sec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rine of states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ights (remember Compact Theo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s recognized the Constitution as the supreme law of th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rine of Null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nd Resul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States of America (C.S.A.) is establ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erson Davis is their first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tution modeled on the U.S. 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the right to own sla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is sovereign &amp;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lusion &amp; Opin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thern way of life is at sta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(Answer in notebook):  Do you believe the South had a legitimate claim to secede from the Union?  Why or why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2:27:29Z</dcterms:created>
  <dc:creator>Robert G. Finkbeiner</dc:creator>
  <dc:description/>
  <dc:language>en-US</dc:language>
  <cp:lastModifiedBy>PA Department of Education Classrooms for the Future</cp:lastModifiedBy>
  <dcterms:modified xsi:type="dcterms:W3CDTF">2011-11-02T13:42:31Z</dcterms:modified>
  <cp:revision>13</cp:revision>
  <dc:subject/>
  <dc:title>Election of 1860 &amp; Secession</dc:title>
</cp:coreProperties>
</file>